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BDB-93C1-446B-80BD-33311D24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F4D-18AA-4A4C-BABD-92251F4F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9DF-103F-411B-A35E-B22B9E2D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A64B-CF68-4769-A8CA-A32BE087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119-5404-475F-B4D0-6113D062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752-C243-49D2-88D4-AD998243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E50-C731-4A49-AB36-78E0209A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26C-A923-426A-88FB-3D6F8911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388A-F601-4B2A-B292-BBC0B0C7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0FD1-4391-4952-818C-90785683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A3D-DC6C-4F7B-AF2F-51F1C460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2307-F581-4A73-8730-A6EB3C60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557F-0975-48DD-AA3A-1687EC45B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ЧНЫЕ РЫ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1557360"/>
            <a:ext cx="678168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О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830592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РЕ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2128680"/>
            <a:ext cx="81532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7925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РА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7816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ЁР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2100240"/>
            <a:ext cx="82296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КЛЕ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76360" y="1914480"/>
            <a:ext cx="61912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1693800"/>
            <a:ext cx="84582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Л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1476360"/>
            <a:ext cx="769644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УСТЕ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28920" y="2414520"/>
            <a:ext cx="42861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8229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11-04-27T15:43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